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9D6-702E-46BE-93A9-9B2294E3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9B1-D4E9-4301-9093-A44E8636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111-8B08-4C55-A419-8A84B1F5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875-C4A4-4CC7-8996-6773029E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9EE0-887B-433D-B9BE-D10E2B8B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D491-D59A-4624-8655-AD4F263F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D38D-E8C4-46C6-A2C8-24C9CB7A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759A-557F-4D88-B6B9-9A80E117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1C3F-CCBB-46CD-9CCF-C2C162A8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A50B-431C-4573-AF5D-245EAA5C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22D6-1A84-4B24-9D64-0BCC991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510-8833-4BA1-9BCA-E713B4FA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061E-738D-47BD-AAEF-E08E954D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4326-5D7F-4095-9FD3-89C0222F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5833-4542-4B30-B43D-7D295A5A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6EE2-3827-4619-979F-358551F5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C408-73E6-4B33-AE8E-3C6BBAE9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E243-588F-4D6F-948A-FC058ED6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BDA5-567A-47F7-8A2A-FD5B2141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1F43-E482-40C0-8ABB-3D356600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0332-206D-4354-B470-4A5B7568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EF95-BB67-4C76-B401-C168AE81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EEC-3D3D-4338-81AF-4F50AA43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9149-8735-4859-BA99-D5073E54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2642-9815-4101-9471-1DDA221C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3620-B869-43D3-AD8F-3458D063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4199-663E-45AC-9D90-0BAC31B8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6771-3C41-4739-9EBC-062503DE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6A7F-4E7D-4CD5-BF4D-61C2A12C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2BA3-2A7C-4793-990A-347EF1E7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15A-AA46-4665-8270-1DCAA103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BB2-F16C-4A37-AD62-8ACFAEF4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BEA-CD30-422A-84AA-F2FA9F70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913-279B-4560-B013-A910FEED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3CB-D04F-4E21-B25A-4342517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CA5-862B-4B45-AF01-8B202F49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51960" y="2057400"/>
            <a:ext cx="41648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Light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ТРАНА - Рос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Текстовое поле 4"/>
          <p:cNvSpPr/>
          <p:nvPr/>
        </p:nvSpPr>
        <p:spPr>
          <a:xfrm>
            <a:off x="1144440" y="1087920"/>
            <a:ext cx="10476000" cy="9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 успешной карьере летчика в детстве Валерий Чкалов мог только мечтать. Родился он в семье котельщика, рано потерял мать и рос в довольно тяжелых условиях. После учебы в речном ремесленном училище он устроился работать сначала кузнецом, а потом кочегаром на землечерпалку, параллельно помогая отцу на службе. В пятнадцать лет он увидел в небе самолет, и это навсегда перевернуло его жизнь — уволившись с работы, он пошел в Красную Армию, чтобы обучаться летному делу и быть ближе к своей новой высокой страст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мещающая рамка рисунка 105" descr=""/>
          <p:cNvPicPr/>
          <p:nvPr/>
        </p:nvPicPr>
        <p:blipFill>
          <a:blip r:embed="rId1"/>
          <a:stretch/>
        </p:blipFill>
        <p:spPr>
          <a:xfrm>
            <a:off x="513720" y="126360"/>
            <a:ext cx="11550960" cy="643860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АНТ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мещающая рамка рисунка 106" descr=""/>
          <p:cNvPicPr/>
          <p:nvPr/>
        </p:nvPicPr>
        <p:blipFill>
          <a:blip r:embed="rId1"/>
          <a:stretch/>
        </p:blipFill>
        <p:spPr>
          <a:xfrm>
            <a:off x="1181880" y="377280"/>
            <a:ext cx="9828720" cy="6103440"/>
          </a:xfrm>
          <a:prstGeom prst="rect">
            <a:avLst/>
          </a:prstGeom>
          <a:ln w="9525">
            <a:noFill/>
          </a:ln>
        </p:spPr>
      </p:pic>
      <p:sp>
        <p:nvSpPr>
          <p:cNvPr id="144" name="Текстовое поле 6"/>
          <p:cNvSpPr/>
          <p:nvPr/>
        </p:nvSpPr>
        <p:spPr>
          <a:xfrm>
            <a:off x="734400" y="850320"/>
            <a:ext cx="1955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Л 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рдена - «Красного знамени» и «Ле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Замещающее содержимое 107" descr=""/>
          <p:cNvPicPr/>
          <p:nvPr/>
        </p:nvPicPr>
        <p:blipFill>
          <a:blip r:embed="rId1"/>
          <a:stretch/>
        </p:blipFill>
        <p:spPr>
          <a:xfrm>
            <a:off x="5570280" y="1585080"/>
            <a:ext cx="3771000" cy="4782600"/>
          </a:xfrm>
          <a:prstGeom prst="rect">
            <a:avLst/>
          </a:prstGeom>
          <a:ln w="9525">
            <a:noFill/>
          </a:ln>
        </p:spPr>
      </p:pic>
      <p:pic>
        <p:nvPicPr>
          <p:cNvPr id="147" name="Замещающее содержимое 108" descr=""/>
          <p:cNvPicPr/>
          <p:nvPr/>
        </p:nvPicPr>
        <p:blipFill>
          <a:blip r:embed="rId2"/>
          <a:stretch/>
        </p:blipFill>
        <p:spPr>
          <a:xfrm>
            <a:off x="647640" y="1584360"/>
            <a:ext cx="3994560" cy="4782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мещающая рамка рисунка 109" descr=""/>
          <p:cNvPicPr/>
          <p:nvPr/>
        </p:nvPicPr>
        <p:blipFill>
          <a:blip r:embed="rId1"/>
          <a:stretch/>
        </p:blipFill>
        <p:spPr>
          <a:xfrm>
            <a:off x="578520" y="248760"/>
            <a:ext cx="10433880" cy="6248520"/>
          </a:xfrm>
          <a:prstGeom prst="rect">
            <a:avLst/>
          </a:prstGeom>
          <a:ln w="9525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Байдуков- мастер слепого полета, Чкалов и Беля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мещающая рамка рисунка 111" descr=""/>
          <p:cNvPicPr/>
          <p:nvPr/>
        </p:nvPicPr>
        <p:blipFill>
          <a:blip r:embed="rId1"/>
          <a:stretch/>
        </p:blipFill>
        <p:spPr>
          <a:xfrm>
            <a:off x="1356840" y="301680"/>
            <a:ext cx="9192600" cy="6090480"/>
          </a:xfrm>
          <a:prstGeom prst="rect">
            <a:avLst/>
          </a:prstGeom>
          <a:ln w="9525">
            <a:noFill/>
          </a:ln>
        </p:spPr>
      </p:pic>
      <p:sp>
        <p:nvSpPr>
          <p:cNvPr id="151" name="Текстовое поле 9"/>
          <p:cNvSpPr/>
          <p:nvPr/>
        </p:nvSpPr>
        <p:spPr>
          <a:xfrm>
            <a:off x="1069560" y="1223640"/>
            <a:ext cx="437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мятник В.П. Чкалову в г. Горь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2060640" y="803160"/>
            <a:ext cx="7705440" cy="578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г. ЕКАТЕРИН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1460520" y="1384200"/>
            <a:ext cx="5962320" cy="508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0" name="Замещающее содержимое 99" descr=""/>
          <p:cNvPicPr/>
          <p:nvPr/>
        </p:nvPicPr>
        <p:blipFill>
          <a:blip r:embed="rId1"/>
          <a:stretch/>
        </p:blipFill>
        <p:spPr>
          <a:xfrm>
            <a:off x="354960" y="258480"/>
            <a:ext cx="11207520" cy="648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2" name="Замещающее содержимое 100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240" cy="591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4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647640" y="177120"/>
            <a:ext cx="10998360" cy="6427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мещающее содержимое 103" descr=""/>
          <p:cNvPicPr/>
          <p:nvPr/>
        </p:nvPicPr>
        <p:blipFill>
          <a:blip r:embed="rId1"/>
          <a:stretch/>
        </p:blipFill>
        <p:spPr>
          <a:xfrm>
            <a:off x="907560" y="423720"/>
            <a:ext cx="10376640" cy="611676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. П.Чк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960" cy="640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мещающая рамка рисунка 104" descr=""/>
          <p:cNvPicPr/>
          <p:nvPr/>
        </p:nvPicPr>
        <p:blipFill>
          <a:blip r:embed="rId1"/>
          <a:stretch/>
        </p:blipFill>
        <p:spPr>
          <a:xfrm>
            <a:off x="346680" y="205920"/>
            <a:ext cx="11556000" cy="646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809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5T09:19:00Z</dcterms:created>
  <dc:creator/>
  <dc:description/>
  <dc:language>en-US</dc:language>
  <cp:lastModifiedBy>Olga</cp:lastModifiedBy>
  <dcterms:modified xsi:type="dcterms:W3CDTF">2023-10-20T09:46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8AD128D1CA74EA187829E0DB8889C6F</vt:lpwstr>
  </property>
  <property fmtid="{D5CDD505-2E9C-101B-9397-08002B2CF9AE}" pid="3" name="KSOProductBuildVer">
    <vt:lpwstr>1049-12.2.0.13266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