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B52-465D-40E5-BE1B-E8B27EFB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D51-328A-45AC-8DC1-8460794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C60-FA14-4534-AD32-667E9941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7FC-29D3-4961-8B1E-D367CAED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ACCA-4B4C-498D-B373-4CC78F84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A1D6-2CFB-4BDE-8418-F61EAA79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C90F-B1F0-490A-9DA0-C68B7CA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0B89-1426-47CA-AAB8-471F8DE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9F74-3000-4699-91B5-F7AF6975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8654-19B4-4F96-B80B-2FBF0FE2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C2E7-D498-4806-AC93-4AAE992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3B5-F073-46F8-872B-C856652E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11B5-68DA-4DCE-891E-23A868F5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FDF-239D-43D3-B5CA-D7A6D7E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CA39-522E-4933-AC53-B01791E5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EE5-23C8-4CEF-9B76-34CA75C6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28F9-33ED-4568-BDEE-07F5AAD2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40139-01AF-49C4-8A36-EEEF362A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8D106-21D5-4B93-AAFA-AE55389E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1BD1-6A99-4AA4-B253-A49AC3EF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63AD-2B41-40A8-B018-252158A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EA3F-9566-4F17-B952-05F1C82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5AD-39BC-47CB-A7E3-E3F2929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9E3F-4853-4853-AEB9-A4AC6B1D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9C4A-0372-40F3-BE81-E252CD3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DC93C-CE46-480A-8F7D-5CBCD67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10C3-0DCB-4AA6-8783-384C8A6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770C-20FD-43A5-949C-32D1D3B5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9B29-EA75-49A2-A879-3033A303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068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17360" y="76644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8400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715068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9117360" y="3427200"/>
            <a:ext cx="187272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9EEB-0EEF-4E83-8395-55E8E5AE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E7A-F703-4988-AD34-547BF78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702-5725-4719-B073-14E73900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6920" y="127080"/>
            <a:ext cx="4164840" cy="74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9E5-8478-4812-820C-7BC63FE7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F40-0500-45FC-A3CE-C20134F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50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4800" y="342720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E0A-BE98-4BC7-898B-A5BBEA28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40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4800" y="766440"/>
            <a:ext cx="283860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84000" y="3427200"/>
            <a:ext cx="5816880" cy="24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3A1-54F5-4020-ADCD-CA2D363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764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598176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 Ligh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84000" y="766440"/>
            <a:ext cx="581688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51960" y="2057400"/>
            <a:ext cx="41648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РАНА - Рос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Текстовое поле 4"/>
          <p:cNvSpPr/>
          <p:nvPr/>
        </p:nvSpPr>
        <p:spPr>
          <a:xfrm>
            <a:off x="1144440" y="1087920"/>
            <a:ext cx="10476000" cy="9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 успешной карьере летчика в детстве Валерий Чкалов мог только мечтать. Родился он в семье котельщика, рано потерял мать и рос в довольно тяжелых условиях. После учебы в речном ремесленном училище он устроился работать сначала кузнецом, а потом кочегаром на землечерпалку, параллельно помогая отцу на службе. В пятнадцать лет он увидел в небе самолет, и это навсегда перевернуло его жизнь — уволившись с работы, он пошел в Красную Армию, чтобы обучаться летному делу и быть ближе к своей новой высокой стра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мещающая рамка рисунка 105" descr=""/>
          <p:cNvPicPr/>
          <p:nvPr/>
        </p:nvPicPr>
        <p:blipFill>
          <a:blip r:embed="rId1"/>
          <a:stretch/>
        </p:blipFill>
        <p:spPr>
          <a:xfrm>
            <a:off x="513720" y="126360"/>
            <a:ext cx="11550960" cy="643860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АНТ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мещающая рамка рисунка 106" descr=""/>
          <p:cNvPicPr/>
          <p:nvPr/>
        </p:nvPicPr>
        <p:blipFill>
          <a:blip r:embed="rId1"/>
          <a:stretch/>
        </p:blipFill>
        <p:spPr>
          <a:xfrm>
            <a:off x="1181880" y="377280"/>
            <a:ext cx="9828720" cy="6103440"/>
          </a:xfrm>
          <a:prstGeom prst="rect">
            <a:avLst/>
          </a:prstGeom>
          <a:ln w="9525">
            <a:noFill/>
          </a:ln>
        </p:spPr>
      </p:pic>
      <p:sp>
        <p:nvSpPr>
          <p:cNvPr id="144" name="Текстовое поле 6"/>
          <p:cNvSpPr/>
          <p:nvPr/>
        </p:nvSpPr>
        <p:spPr>
          <a:xfrm>
            <a:off x="734400" y="850320"/>
            <a:ext cx="1955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Л 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рдена - «Красного знамени» и «Ле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Замещающее содержимое 107" descr=""/>
          <p:cNvPicPr/>
          <p:nvPr/>
        </p:nvPicPr>
        <p:blipFill>
          <a:blip r:embed="rId1"/>
          <a:stretch/>
        </p:blipFill>
        <p:spPr>
          <a:xfrm>
            <a:off x="5570280" y="1585080"/>
            <a:ext cx="3771000" cy="4782600"/>
          </a:xfrm>
          <a:prstGeom prst="rect">
            <a:avLst/>
          </a:prstGeom>
          <a:ln w="9525">
            <a:noFill/>
          </a:ln>
        </p:spPr>
      </p:pic>
      <p:pic>
        <p:nvPicPr>
          <p:cNvPr id="147" name="Замещающее содержимое 108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3994560" cy="4782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мещающая рамка рисунка 109" descr=""/>
          <p:cNvPicPr/>
          <p:nvPr/>
        </p:nvPicPr>
        <p:blipFill>
          <a:blip r:embed="rId1"/>
          <a:stretch/>
        </p:blipFill>
        <p:spPr>
          <a:xfrm>
            <a:off x="578520" y="248760"/>
            <a:ext cx="10433880" cy="6248520"/>
          </a:xfrm>
          <a:prstGeom prst="rect">
            <a:avLst/>
          </a:prstGeom>
          <a:ln w="9525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6920" y="127080"/>
            <a:ext cx="4164840" cy="15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Байдуков- мастер слепого полета, Чкалов и Беля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мещающая рамка рисунка 111" descr=""/>
          <p:cNvPicPr/>
          <p:nvPr/>
        </p:nvPicPr>
        <p:blipFill>
          <a:blip r:embed="rId1"/>
          <a:stretch/>
        </p:blipFill>
        <p:spPr>
          <a:xfrm>
            <a:off x="1356840" y="301680"/>
            <a:ext cx="9192600" cy="6090480"/>
          </a:xfrm>
          <a:prstGeom prst="rect">
            <a:avLst/>
          </a:prstGeom>
          <a:ln w="9525">
            <a:noFill/>
          </a:ln>
        </p:spPr>
      </p:pic>
      <p:sp>
        <p:nvSpPr>
          <p:cNvPr id="151" name="Текстовое поле 9"/>
          <p:cNvSpPr/>
          <p:nvPr/>
        </p:nvSpPr>
        <p:spPr>
          <a:xfrm>
            <a:off x="1069560" y="1223640"/>
            <a:ext cx="437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мятник В.П. Чкалову в г. Горь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2060640" y="803160"/>
            <a:ext cx="7705440" cy="578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. ЕКАТЕРИНБУР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1460520" y="1384200"/>
            <a:ext cx="5962320" cy="5081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Замещающее содержимое 99" descr=""/>
          <p:cNvPicPr/>
          <p:nvPr/>
        </p:nvPicPr>
        <p:blipFill>
          <a:blip r:embed="rId1"/>
          <a:stretch/>
        </p:blipFill>
        <p:spPr>
          <a:xfrm>
            <a:off x="354960" y="258480"/>
            <a:ext cx="11207520" cy="648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2" name="Замещающее содержимое 100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240" cy="5917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Замещающее содержимое 101" descr=""/>
          <p:cNvPicPr/>
          <p:nvPr/>
        </p:nvPicPr>
        <p:blipFill>
          <a:blip r:embed="rId1"/>
          <a:stretch/>
        </p:blipFill>
        <p:spPr>
          <a:xfrm>
            <a:off x="647640" y="177120"/>
            <a:ext cx="10998360" cy="642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мещающее содержимое 103" descr=""/>
          <p:cNvPicPr/>
          <p:nvPr/>
        </p:nvPicPr>
        <p:blipFill>
          <a:blip r:embed="rId1"/>
          <a:stretch/>
        </p:blipFill>
        <p:spPr>
          <a:xfrm>
            <a:off x="907560" y="423720"/>
            <a:ext cx="10376640" cy="611676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. П.Чк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58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8" name="Замещающее содержимое 102" descr=""/>
          <p:cNvPicPr/>
          <p:nvPr/>
        </p:nvPicPr>
        <p:blipFill>
          <a:blip r:embed="rId1"/>
          <a:stretch/>
        </p:blipFill>
        <p:spPr>
          <a:xfrm>
            <a:off x="647640" y="259200"/>
            <a:ext cx="10515960" cy="6401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мещающая рамка рисунка 104" descr=""/>
          <p:cNvPicPr/>
          <p:nvPr/>
        </p:nvPicPr>
        <p:blipFill>
          <a:blip r:embed="rId1"/>
          <a:stretch/>
        </p:blipFill>
        <p:spPr>
          <a:xfrm>
            <a:off x="346680" y="205920"/>
            <a:ext cx="11556000" cy="646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09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05T09:19:00Z</dcterms:created>
  <dc:creator/>
  <dc:description/>
  <dc:language>en-US</dc:language>
  <cp:lastModifiedBy>Olga</cp:lastModifiedBy>
  <dcterms:modified xsi:type="dcterms:W3CDTF">2023-10-20T09:46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8AD128D1CA74EA187829E0DB8889C6F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5</vt:r8>
  </property>
</Properties>
</file>