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8EA5-2312-455D-8E4A-4FE4B4E8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AE90-C9FE-497A-81A3-A84FC528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C2CF-D883-47DC-B9FC-5A2FCDDE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15068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1736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8400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15068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11736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E038-AAF8-4653-9D51-9F7493FC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B5C0-8E7C-403C-8E2F-516FAD31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4E12-28F4-462D-AB8F-F2E7BBEF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6905-07EC-4B51-8756-DFB7F267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9DD2-7CCD-4631-87AE-B57CEA58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83F2-9538-4E53-AE53-69FF192F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6920" y="127080"/>
            <a:ext cx="41648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E933-54D5-4B53-B11F-33BDE561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FE95-E838-457B-8BCD-14A5084D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20BF-2B56-4CA0-902B-89AAD7D3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D525-0D31-4633-BFF8-529E441F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2D50-C27D-47DC-BB45-4C4208C7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191F-FF90-4E40-8388-AE730B66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E0FF-0294-4262-ADDB-DF5A3C1F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5068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1736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8400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715068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911736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33A7-2BE9-4343-960D-96B216CE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334EA-24CB-43A8-875F-2C2A323B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5B6C-3786-4A3B-A480-60ED9A21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9B475-5439-4B7E-B054-4E39190B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56851-ECC3-41BD-BA41-77412EB3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FB187-5621-435F-AB8F-FDBF3AFB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2D8-BC64-4373-A5EA-EF1CDA05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46920" y="127080"/>
            <a:ext cx="41648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B5734-F994-4D42-8A49-216B1A41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B7CF5-1E8C-4B7B-84EC-E5B58A63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2E4A2-3907-4C96-803C-500F2817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9C064-C0D8-4E32-B0D3-2DC5BB8D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B2960-DDC7-407E-A2EA-9176FDB0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34D61-D4E8-4844-A6AE-ED8FA515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068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1736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8400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715068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911736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01774-AF1A-4519-BC89-AD80B43D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872-858D-406F-B01E-D6BD9CE5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3CA-FB05-4CB8-B893-B05C6C07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6920" y="127080"/>
            <a:ext cx="41648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78D7-8194-4ACE-A4D9-C565C154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9A8-A10D-46C8-9792-3A4E48D8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794-C711-48B5-8ED5-242C2821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A0F-CD5D-463F-AA19-1AB5ABDB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764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598176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51960" y="2057400"/>
            <a:ext cx="41648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 Light"/>
              </a:rPr>
              <a:t>Click to edit Master text styles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ТРАНА - Рос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Текстовое поле 4"/>
          <p:cNvSpPr/>
          <p:nvPr/>
        </p:nvSpPr>
        <p:spPr>
          <a:xfrm>
            <a:off x="1144440" y="1087920"/>
            <a:ext cx="10476000" cy="9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 успешной карьере летчика в детстве Валерий Чкалов мог только мечтать. Родился он в семье котельщика, рано потерял мать и рос в довольно тяжелых условиях. После учебы в речном ремесленном училище он устроился работать сначала кузнецом, а потом кочегаром на землечерпалку, параллельно помогая отцу на службе. В пятнадцать лет он увидел в небе самолет, и это навсегда перевернуло его жизнь — уволившись с работы, он пошел в Красную Армию, чтобы обучаться летному делу и быть ближе к своей новой высокой страст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мещающая рамка рисунка 105" descr=""/>
          <p:cNvPicPr/>
          <p:nvPr/>
        </p:nvPicPr>
        <p:blipFill>
          <a:blip r:embed="rId1"/>
          <a:stretch/>
        </p:blipFill>
        <p:spPr>
          <a:xfrm>
            <a:off x="513720" y="126360"/>
            <a:ext cx="11550960" cy="6438600"/>
          </a:xfrm>
          <a:prstGeom prst="rect">
            <a:avLst/>
          </a:prstGeom>
          <a:ln w="9525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АНТ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мещающая рамка рисунка 106" descr=""/>
          <p:cNvPicPr/>
          <p:nvPr/>
        </p:nvPicPr>
        <p:blipFill>
          <a:blip r:embed="rId1"/>
          <a:stretch/>
        </p:blipFill>
        <p:spPr>
          <a:xfrm>
            <a:off x="1181880" y="377280"/>
            <a:ext cx="9828720" cy="6103440"/>
          </a:xfrm>
          <a:prstGeom prst="rect">
            <a:avLst/>
          </a:prstGeom>
          <a:ln w="9525">
            <a:noFill/>
          </a:ln>
        </p:spPr>
      </p:pic>
      <p:sp>
        <p:nvSpPr>
          <p:cNvPr id="144" name="Текстовое поле 6"/>
          <p:cNvSpPr/>
          <p:nvPr/>
        </p:nvSpPr>
        <p:spPr>
          <a:xfrm>
            <a:off x="734400" y="850320"/>
            <a:ext cx="1955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Л 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рдена - «Красного знамени» и «Ленин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Замещающее содержимое 107" descr=""/>
          <p:cNvPicPr/>
          <p:nvPr/>
        </p:nvPicPr>
        <p:blipFill>
          <a:blip r:embed="rId1"/>
          <a:stretch/>
        </p:blipFill>
        <p:spPr>
          <a:xfrm>
            <a:off x="5570280" y="1585080"/>
            <a:ext cx="3771000" cy="4782600"/>
          </a:xfrm>
          <a:prstGeom prst="rect">
            <a:avLst/>
          </a:prstGeom>
          <a:ln w="9525">
            <a:noFill/>
          </a:ln>
        </p:spPr>
      </p:pic>
      <p:pic>
        <p:nvPicPr>
          <p:cNvPr id="147" name="Замещающее содержимое 108" descr=""/>
          <p:cNvPicPr/>
          <p:nvPr/>
        </p:nvPicPr>
        <p:blipFill>
          <a:blip r:embed="rId2"/>
          <a:stretch/>
        </p:blipFill>
        <p:spPr>
          <a:xfrm>
            <a:off x="647640" y="1584360"/>
            <a:ext cx="3994560" cy="4782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мещающая рамка рисунка 109" descr=""/>
          <p:cNvPicPr/>
          <p:nvPr/>
        </p:nvPicPr>
        <p:blipFill>
          <a:blip r:embed="rId1"/>
          <a:stretch/>
        </p:blipFill>
        <p:spPr>
          <a:xfrm>
            <a:off x="578520" y="248760"/>
            <a:ext cx="10433880" cy="6248520"/>
          </a:xfrm>
          <a:prstGeom prst="rect">
            <a:avLst/>
          </a:prstGeom>
          <a:ln w="9525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Байдуков- мастер слепого полета, Чкалов и Беля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мещающая рамка рисунка 111" descr=""/>
          <p:cNvPicPr/>
          <p:nvPr/>
        </p:nvPicPr>
        <p:blipFill>
          <a:blip r:embed="rId1"/>
          <a:stretch/>
        </p:blipFill>
        <p:spPr>
          <a:xfrm>
            <a:off x="1356840" y="301680"/>
            <a:ext cx="9192600" cy="6090480"/>
          </a:xfrm>
          <a:prstGeom prst="rect">
            <a:avLst/>
          </a:prstGeom>
          <a:ln w="9525">
            <a:noFill/>
          </a:ln>
        </p:spPr>
      </p:pic>
      <p:sp>
        <p:nvSpPr>
          <p:cNvPr id="151" name="Текстовое поле 9"/>
          <p:cNvSpPr/>
          <p:nvPr/>
        </p:nvSpPr>
        <p:spPr>
          <a:xfrm>
            <a:off x="1069560" y="1223640"/>
            <a:ext cx="4376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мятник В.П. Чкалову в г. Горь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мещающее содержимое 101" descr=""/>
          <p:cNvPicPr/>
          <p:nvPr/>
        </p:nvPicPr>
        <p:blipFill>
          <a:blip r:embed="rId1"/>
          <a:stretch/>
        </p:blipFill>
        <p:spPr>
          <a:xfrm>
            <a:off x="2060640" y="803160"/>
            <a:ext cx="7705440" cy="5783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г. ЕКАТЕРИНБУР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Замещающее содержимое 102" descr=""/>
          <p:cNvPicPr/>
          <p:nvPr/>
        </p:nvPicPr>
        <p:blipFill>
          <a:blip r:embed="rId1"/>
          <a:stretch/>
        </p:blipFill>
        <p:spPr>
          <a:xfrm>
            <a:off x="1460520" y="1384200"/>
            <a:ext cx="5962320" cy="5081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0" name="Замещающее содержимое 99" descr=""/>
          <p:cNvPicPr/>
          <p:nvPr/>
        </p:nvPicPr>
        <p:blipFill>
          <a:blip r:embed="rId1"/>
          <a:stretch/>
        </p:blipFill>
        <p:spPr>
          <a:xfrm>
            <a:off x="354960" y="258480"/>
            <a:ext cx="11207520" cy="6482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2" name="Замещающее содержимое 100" descr=""/>
          <p:cNvPicPr/>
          <p:nvPr/>
        </p:nvPicPr>
        <p:blipFill>
          <a:blip r:embed="rId1"/>
          <a:stretch/>
        </p:blipFill>
        <p:spPr>
          <a:xfrm>
            <a:off x="647640" y="259200"/>
            <a:ext cx="10515240" cy="5917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4" name="Замещающее содержимое 101" descr=""/>
          <p:cNvPicPr/>
          <p:nvPr/>
        </p:nvPicPr>
        <p:blipFill>
          <a:blip r:embed="rId1"/>
          <a:stretch/>
        </p:blipFill>
        <p:spPr>
          <a:xfrm>
            <a:off x="647640" y="177120"/>
            <a:ext cx="10998360" cy="6427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мещающее содержимое 103" descr=""/>
          <p:cNvPicPr/>
          <p:nvPr/>
        </p:nvPicPr>
        <p:blipFill>
          <a:blip r:embed="rId1"/>
          <a:stretch/>
        </p:blipFill>
        <p:spPr>
          <a:xfrm>
            <a:off x="907560" y="423720"/>
            <a:ext cx="10376640" cy="6116760"/>
          </a:xfrm>
          <a:prstGeom prst="rect">
            <a:avLst/>
          </a:prstGeom>
          <a:ln w="9525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                          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. П.Чк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8" name="Замещающее содержимое 102" descr=""/>
          <p:cNvPicPr/>
          <p:nvPr/>
        </p:nvPicPr>
        <p:blipFill>
          <a:blip r:embed="rId1"/>
          <a:stretch/>
        </p:blipFill>
        <p:spPr>
          <a:xfrm>
            <a:off x="647640" y="259200"/>
            <a:ext cx="10515960" cy="6401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мещающая рамка рисунка 104" descr=""/>
          <p:cNvPicPr/>
          <p:nvPr/>
        </p:nvPicPr>
        <p:blipFill>
          <a:blip r:embed="rId1"/>
          <a:stretch/>
        </p:blipFill>
        <p:spPr>
          <a:xfrm>
            <a:off x="346680" y="205920"/>
            <a:ext cx="11556000" cy="646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809</Words>
  <Paragraphs>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05T09:19:00Z</dcterms:created>
  <dc:creator/>
  <dc:description/>
  <dc:language>en-US</dc:language>
  <cp:lastModifiedBy>Olga</cp:lastModifiedBy>
  <dcterms:modified xsi:type="dcterms:W3CDTF">2023-10-20T09:46:4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8AD128D1CA74EA187829E0DB8889C6F</vt:lpwstr>
  </property>
  <property fmtid="{D5CDD505-2E9C-101B-9397-08002B2CF9AE}" pid="3" name="KSOProductBuildVer">
    <vt:lpwstr>1049-12.2.0.13266</vt:lpwstr>
  </property>
  <property fmtid="{D5CDD505-2E9C-101B-9397-08002B2CF9AE}" pid="4" name="PresentationFormat">
    <vt:lpwstr>宽屏</vt:lpwstr>
  </property>
  <property fmtid="{D5CDD505-2E9C-101B-9397-08002B2CF9AE}" pid="5" name="Slides">
    <vt:r8>15</vt:r8>
  </property>
</Properties>
</file>