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271-D806-4874-944B-34EF4695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9B3-BC07-4926-9842-93D9874F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34B-FA03-4A4F-BF26-D8BF8C80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362-F653-47DC-8637-69260828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0A06-9850-47DE-90CD-6100AEEB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7998-66D3-44BA-9BB9-77BE2BA3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912E-8025-455A-A89B-EF9253C4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D8DF-5B73-4D98-AAEF-10CD8E1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4639-FE56-4DC1-983B-24ED5501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3A46-7662-4B5B-8522-39F4916B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8135-D2DA-4A68-9DAB-01F990B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DB1-6033-4C53-8A4E-B7153E73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E900-581A-4189-A9FA-CDAAD606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265F-DD77-40C6-8ED7-4C60FB1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A303-9EDC-4758-A0FE-53F1BF16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7236-9B3E-415F-BBAB-5F727B78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B469-4157-4173-BA5A-B82B7C45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0A4-80BF-4A10-906B-AED44AAB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F0F-C36C-4A31-A563-A6FA4552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483-542F-414C-886A-5A073D12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D09-BD5B-4EBE-BB01-F1CA2B4F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6EB-D91E-4957-B8B2-6A63CF8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B61-9C3A-4584-A567-7B35ACB5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1FB-0C87-4403-B41E-AE4E589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040-FC84-4533-9291-429E377612E9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1716-0337-43CE-A752-1C73DC4643E8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втоматизация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л]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в  начале   слов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4560" y="1981080"/>
            <a:ext cx="331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95480" y="1981080"/>
            <a:ext cx="51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н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4920" y="19810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ыж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с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ж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98680" y="1981080"/>
            <a:ext cx="43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сточ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ндыш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38400" y="1981080"/>
            <a:ext cx="30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ш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52760" y="1981080"/>
            <a:ext cx="58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и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19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7:57:02Z</dcterms:created>
  <dc:creator>Алексей</dc:creator>
  <dc:description/>
  <dc:language>en-US</dc:language>
  <cp:lastModifiedBy>тест</cp:lastModifiedBy>
  <dcterms:modified xsi:type="dcterms:W3CDTF">2012-02-29T08:43:51Z</dcterms:modified>
  <cp:revision>3</cp:revision>
  <dc:subject/>
  <dc:title>Автоматизация  [л]  в  начале слова</dc:title>
</cp:coreProperties>
</file>