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842-3919-443E-8848-83E70D91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613-30F2-4D4F-9651-01C908DF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B30-E9DF-4D74-A7BC-2CB4CA7B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238-D155-44A7-AD38-37A9FA1E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24F9-407F-4503-89F9-FBF70849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B97F-D8A3-4946-AB7B-020533AA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C029-049A-433C-B44C-13C1824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C835-DEAB-4130-9995-2E1E76EB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2D9F-D580-47AE-AAB7-F2286C11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671C-6C44-467F-9E55-1A73A23C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AECF-8754-4DE7-8E25-A31CA695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E4E-5500-47F0-892C-0E83E0A6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5935-4F83-4964-B524-F665B44B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F3E1-91E0-4BC4-BDB6-2BD5F033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26C7-E7AB-4E1E-8E7B-40F80676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9DBA-328F-4769-A2ED-D8C94763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DC78-47F1-45C3-8309-97475B17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5FD-2A2E-4057-A44E-61F3EECE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510-923D-47E7-B7AE-F10FB046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336-0A21-4C68-BCEF-420A1BAA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79B-A6C2-481C-8123-7ED5181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52C-5826-4892-A468-3C478A02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752-5430-4CD1-B7EF-CFC5EB33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BBA-284D-442A-A9F2-CDAC13F9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6B86-57DC-4B72-8441-3A8A8B8A0BBE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DB20-E87D-43F3-AB69-373FACDE3EC0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втоматизация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л]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в  начале   слов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4560" y="1981080"/>
            <a:ext cx="3314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ч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95480" y="1981080"/>
            <a:ext cx="51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н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4920" y="19810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ыж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с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82840" y="1981080"/>
            <a:ext cx="43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ж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98680" y="1981080"/>
            <a:ext cx="43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сточ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ндыш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38400" y="1981080"/>
            <a:ext cx="306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ш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52760" y="1981080"/>
            <a:ext cx="583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ин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19480" y="1981080"/>
            <a:ext cx="270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7:57:02Z</dcterms:created>
  <dc:creator>Алексей</dc:creator>
  <dc:description/>
  <dc:language>en-US</dc:language>
  <cp:lastModifiedBy>тест</cp:lastModifiedBy>
  <dcterms:modified xsi:type="dcterms:W3CDTF">2012-02-29T08:43:51Z</dcterms:modified>
  <cp:revision>3</cp:revision>
  <dc:subject/>
  <dc:title>Автоматизация  [л]  в  начале слова</dc:title>
</cp:coreProperties>
</file>