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1A68-6310-4E7B-A5B7-68608C74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EC26-1DF5-4099-B758-3EA938F8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87C9-35AC-4692-B069-6DEC68B8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AC2-7F29-44F0-A864-9AEA2912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B023-208E-4305-B1DB-E9CB7879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9D23-44FD-4406-905F-5AB9C691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1CDA-41BB-47FC-81D3-833F8673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1ECB-C1DD-47A3-A46E-D7B31241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FF23-4648-4AEF-863B-4310487F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50EB-E7F7-4A21-B2DC-FD7B7BDC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3ACA-2C9B-4289-9F25-CE071645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8D5-61A8-4A5E-AEC0-B7EFD448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7AB0-A78D-4E3C-9EAC-189C4BCD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2C02-3639-4A52-8980-2DDC35FE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47E1-CB91-4E24-B891-E24D364A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1F12-3DBD-4A8B-B74B-2312E83A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6C93-EE42-4533-BC43-A9ED87B7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C945-19EA-46E6-A1F5-51161598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0E6-46C9-4CBE-95C8-CD329C63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249-685F-48EF-8980-DA799640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1CA-0142-4E3E-B9D7-F32E680A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68CB-843B-4F29-8D50-52CD28BF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C0D-9D70-465D-B5D8-B4E52BB6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63A9-45D1-4C77-B4A2-6F6BA5D6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57C8-B108-405D-B915-095CFDD11021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0367-02FB-47D0-9A39-1C9141FA9022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втоматизация 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л]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в  начале   слов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о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914560" y="1981080"/>
            <a:ext cx="3314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уч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95480" y="1981080"/>
            <a:ext cx="515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ун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4920" y="1981080"/>
            <a:ext cx="619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ыжи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п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36720" y="1981080"/>
            <a:ext cx="546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в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54080" y="1981080"/>
            <a:ext cx="523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ось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382840" y="1981080"/>
            <a:ext cx="437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ож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98680" y="1981080"/>
            <a:ext cx="434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сточ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ндыш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38400" y="1981080"/>
            <a:ext cx="3067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пш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52760" y="1981080"/>
            <a:ext cx="583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вин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19480" y="1981080"/>
            <a:ext cx="2705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17:57:02Z</dcterms:created>
  <dc:creator>Алексей</dc:creator>
  <dc:description/>
  <dc:language>en-US</dc:language>
  <cp:lastModifiedBy>тест</cp:lastModifiedBy>
  <dcterms:modified xsi:type="dcterms:W3CDTF">2012-02-29T08:43:51Z</dcterms:modified>
  <cp:revision>3</cp:revision>
  <dc:subject/>
  <dc:title>Автоматизация  [л]  в  начале слова</dc:title>
</cp:coreProperties>
</file>